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B5B3-C2F8-4532-91AF-9911B9F5232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6A55-CA1A-45FA-9A6B-8492B25C4F9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F82E-D5DB-4393-A226-F039D66F387C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5581-FAE9-4241-A8AD-D08408B2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1243-1EA1-4EFE-ADD8-208267D6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99B-8BAE-483E-A7A9-9C9071B6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1E6F-A1BC-4CCE-87E0-8EE67A72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850-4628-4F7B-8385-0B35CAFA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6A04-8678-465B-9EAF-0554DD65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DF4D-FFE2-4E2D-BEA9-D65427FD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4BE4-AB2B-4333-9048-1EB5AFCA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9297-DB9E-473A-859A-BCFFEE0E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978D-1146-4A55-B43F-3C3E01AF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344-0310-4795-B8C0-26A2A941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F8A8-94B2-4E5D-B235-947728C5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18B5-0952-4DE2-86AB-9332D0E5E740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ing Cinderella’s Cas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Claudia Lo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 was aiming for it to look l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1000080" y="107172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 the shape of a rhombus with the pencil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use the push/pull tool to pull it up and cut out a d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993600" y="192888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1000080" y="114300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 a circle next to the door pull it up with the push/pull tool and cut little squares at the top of the po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eat on the other s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993600" y="233208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779400" y="233208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785880" y="114300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e some shapes on the flat roof (square,rectangle,circle) and pull them up. Then add the roofs to them. For the circular turrets, do this by drawing a triangle and using the follow me tool to drag the triangle around. If you want you could add windows to some of the building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71680" y="185724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571680" y="114300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t in a few more shapes and on top of the rectangle build 3 towers starting from smallest to talle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928800" y="233208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857160" y="128592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ild 2 tall towers next to the rectang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 two lines across from the tallest tower on the rectangle to connect it to the tallest tower on the flat ro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857160" y="233208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857160" y="164304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w you are ready to add colou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 could also add in a pool and a gar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hope you enjoyed my Cinderella cas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07:14:58Z</dcterms:created>
  <dc:creator>Diocesan School for Girls</dc:creator>
  <dc:description/>
  <dc:language>en-US</dc:language>
  <cp:lastModifiedBy>Diocesan School for Girls</cp:lastModifiedBy>
  <dcterms:modified xsi:type="dcterms:W3CDTF">2009-09-06T08:38:54Z</dcterms:modified>
  <cp:revision>15</cp:revision>
  <dc:subject/>
  <dc:title>Cinderella’s Castle</dc:title>
</cp:coreProperties>
</file>